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224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6120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63E02F-1594-496D-A5FC-48B4C4A952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F551B09-2A08-4E4C-A958-7CB47C25E48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612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E2C51D-AB0D-412A-9B28-4041E751C09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612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F1ACFC7-0ECB-447F-B5BA-CDA6E2B9DCF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612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7D9716C-21EA-4CFB-BB6C-716A7ED8421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612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B8CD0E9-DBFB-443D-BEC2-2C3ED141F71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89F-9683-42B5-84E5-111A9370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011A-0A8D-479C-BEF8-9F943473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62D5-870C-4C80-83EB-A496418D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A2FC-4D17-48E5-A7D4-558B66DF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73EE-CA3A-4960-B4D4-900E923F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FFF7-5241-4CD4-8973-0110D37A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8B36-3134-4360-8CA7-FB048507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F2A5-D2D2-4939-B40D-EE8FBC79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A247-578E-475C-A95F-BEBA715F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4D60-8997-4CB0-8DE1-14B796EF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ECEB-597C-4892-A030-4748A3A8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7B7B-8C53-4461-BBE5-DB88901E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4BB1-154F-426B-AF73-C5B4C825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699A-EBBD-42CB-9645-293C9DEF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49FD-B0D9-4FB0-AE4E-BD6608A2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31BA-F3BC-4B55-84EB-DC3C0362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47DA-A78E-4601-AFA1-BF5D8EC1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1675-4A86-4B57-996D-D5DCCDAF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1C39-A74C-4171-A5AE-E58B5663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F355-CA26-4B17-BC25-57B25129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E8E9-DCCA-42E4-BBD8-8C9E62D2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C7F5-B0A4-48DF-A78A-ABF6985F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A364-4749-4B35-8FDA-64A07DEE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35A5-1D6F-4639-AF05-C57CDBAF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914B-00AB-4719-A10E-109B530798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140360" y="6426360"/>
            <a:ext cx="610920" cy="431640"/>
          </a:xfrm>
          <a:prstGeom prst="rect">
            <a:avLst/>
          </a:prstGeom>
          <a:solidFill>
            <a:srgbClr val="afc55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Health and</a:t>
            </a:r>
            <a:endParaRPr b="0" lang="en-US" sz="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Consumers</a:t>
            </a:r>
            <a:endParaRPr b="0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grpSp>
        <p:nvGrpSpPr>
          <p:cNvPr id="7" name="Group 15"/>
          <p:cNvGrpSpPr/>
          <p:nvPr/>
        </p:nvGrpSpPr>
        <p:grpSpPr>
          <a:xfrm>
            <a:off x="3849840" y="258840"/>
            <a:ext cx="1436400" cy="1004760"/>
            <a:chOff x="3849840" y="258840"/>
            <a:chExt cx="1436400" cy="1004760"/>
          </a:xfrm>
        </p:grpSpPr>
        <p:pic>
          <p:nvPicPr>
            <p:cNvPr id="8" name="Picture 8" descr="LOGO CE_Vertical_EN_NEG_quadri_HR"/>
            <p:cNvPicPr/>
            <p:nvPr/>
          </p:nvPicPr>
          <p:blipFill>
            <a:blip r:embed="rId2"/>
            <a:stretch/>
          </p:blipFill>
          <p:spPr>
            <a:xfrm>
              <a:off x="3849840" y="258840"/>
              <a:ext cx="143640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Rectangle 13"/>
            <p:cNvSpPr/>
            <p:nvPr/>
          </p:nvSpPr>
          <p:spPr>
            <a:xfrm>
              <a:off x="4141800" y="1222200"/>
              <a:ext cx="622440" cy="36720"/>
            </a:xfrm>
            <a:prstGeom prst="rect">
              <a:avLst/>
            </a:prstGeom>
            <a:solidFill>
              <a:srgbClr val="afc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6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1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grpSp>
        <p:nvGrpSpPr>
          <p:cNvPr id="47" name="Group 20"/>
          <p:cNvGrpSpPr/>
          <p:nvPr/>
        </p:nvGrpSpPr>
        <p:grpSpPr>
          <a:xfrm>
            <a:off x="3849840" y="258840"/>
            <a:ext cx="1436400" cy="1000080"/>
            <a:chOff x="3849840" y="258840"/>
            <a:chExt cx="1436400" cy="1000080"/>
          </a:xfrm>
        </p:grpSpPr>
        <p:pic>
          <p:nvPicPr>
            <p:cNvPr id="48" name="Picture 6" descr="LOGO CE-EN-quadri.eps"/>
            <p:cNvPicPr/>
            <p:nvPr/>
          </p:nvPicPr>
          <p:blipFill>
            <a:blip r:embed="rId2"/>
            <a:stretch/>
          </p:blipFill>
          <p:spPr>
            <a:xfrm>
              <a:off x="3849840" y="258840"/>
              <a:ext cx="143640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Rectangle 14"/>
            <p:cNvSpPr/>
            <p:nvPr/>
          </p:nvSpPr>
          <p:spPr>
            <a:xfrm>
              <a:off x="4145040" y="1222200"/>
              <a:ext cx="619200" cy="36720"/>
            </a:xfrm>
            <a:prstGeom prst="rect">
              <a:avLst/>
            </a:prstGeom>
            <a:solidFill>
              <a:srgbClr val="afc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6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  <p:sp>
        <p:nvSpPr>
          <p:cNvPr id="50" name="Rectangle 16"/>
          <p:cNvSpPr/>
          <p:nvPr/>
        </p:nvSpPr>
        <p:spPr>
          <a:xfrm>
            <a:off x="4140360" y="6426360"/>
            <a:ext cx="610920" cy="431640"/>
          </a:xfrm>
          <a:prstGeom prst="rect">
            <a:avLst/>
          </a:prstGeom>
          <a:solidFill>
            <a:srgbClr val="afc55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Health and</a:t>
            </a:r>
            <a:endParaRPr b="0" lang="en-US" sz="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Consumers</a:t>
            </a:r>
            <a:endParaRPr b="0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0E72-B3E4-45C3-84CD-02CD7A7A373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c.europa.eu/food/plant/pesticides/sustainable_use_pesticides/index_en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1760" y="1717560"/>
            <a:ext cx="8788680" cy="23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Sustainable Use of Pesticides in the EU: </a:t>
            </a:r>
            <a:br>
              <a:rPr sz="4000"/>
            </a:b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Directive 2009/128/EC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652320" y="4818240"/>
            <a:ext cx="800100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  <a:ea typeface="Arial"/>
              </a:rPr>
              <a:t>Karin Nienstedt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  <a:ea typeface="Arial"/>
              </a:rPr>
              <a:t>DG Health and Consumers / SANCO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  <a:ea typeface="Arial"/>
              </a:rPr>
              <a:t>Unit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Arial"/>
              </a:rPr>
              <a:t> E3 – Chemicals, contaminants, pesticides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Arial"/>
              </a:rPr>
              <a:t>6 October 2014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135900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b050"/>
                </a:solidFill>
                <a:latin typeface="Verdana"/>
              </a:rPr>
              <a:t>EU legislative framework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82560" y="981000"/>
            <a:ext cx="309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57320" y="2460600"/>
            <a:ext cx="201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5ec1"/>
                </a:solidFill>
                <a:latin typeface="Verdana"/>
                <a:ea typeface="Arial"/>
              </a:rPr>
              <a:t>Placing on the market of plant protection products</a:t>
            </a:r>
            <a:endParaRPr b="0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239920" y="5740560"/>
            <a:ext cx="434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5ec1"/>
                </a:solidFill>
                <a:latin typeface="Verdana"/>
                <a:ea typeface="Arial"/>
              </a:rPr>
              <a:t>Technical requirements for machinery</a:t>
            </a:r>
            <a:endParaRPr b="0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7031160" y="4124160"/>
            <a:ext cx="183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5ec1"/>
                </a:solidFill>
                <a:latin typeface="Verdana"/>
                <a:ea typeface="Arial"/>
              </a:rPr>
              <a:t>Maximum residue levels of pesticides</a:t>
            </a:r>
            <a:endParaRPr b="0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74600" y="4543560"/>
            <a:ext cx="204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5ec1"/>
                </a:solidFill>
                <a:latin typeface="Verdana"/>
                <a:ea typeface="Arial"/>
              </a:rPr>
              <a:t>Collection </a:t>
            </a:r>
            <a:br>
              <a:rPr sz="2000"/>
            </a:br>
            <a:r>
              <a:rPr b="1" lang="en-GB" sz="2000" spc="-1" strike="noStrike">
                <a:solidFill>
                  <a:srgbClr val="2d5ec1"/>
                </a:solidFill>
                <a:latin typeface="Verdana"/>
                <a:ea typeface="Arial"/>
              </a:rPr>
              <a:t>of statistics</a:t>
            </a:r>
            <a:endParaRPr b="0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7" name="AutoShape 15"/>
          <p:cNvSpPr/>
          <p:nvPr/>
        </p:nvSpPr>
        <p:spPr>
          <a:xfrm flipH="1">
            <a:off x="6268320" y="4505400"/>
            <a:ext cx="785880" cy="449280"/>
          </a:xfrm>
          <a:prstGeom prst="rightArrow">
            <a:avLst>
              <a:gd name="adj1" fmla="val 50000"/>
              <a:gd name="adj2" fmla="val 437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8" name="AutoShape 17"/>
          <p:cNvSpPr/>
          <p:nvPr/>
        </p:nvSpPr>
        <p:spPr>
          <a:xfrm>
            <a:off x="2198520" y="2716200"/>
            <a:ext cx="543240" cy="549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6800760" y="2496960"/>
            <a:ext cx="202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5ec1"/>
                </a:solidFill>
                <a:latin typeface="Verdana"/>
                <a:ea typeface="Arial"/>
              </a:rPr>
              <a:t>Sustainable use of pesticides</a:t>
            </a:r>
            <a:endParaRPr b="0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0" name="AutoShape 25"/>
          <p:cNvSpPr/>
          <p:nvPr/>
        </p:nvSpPr>
        <p:spPr>
          <a:xfrm flipH="1" rot="5400000">
            <a:off x="4269600" y="5393520"/>
            <a:ext cx="37296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1" name="AutoShape 31"/>
          <p:cNvSpPr/>
          <p:nvPr/>
        </p:nvSpPr>
        <p:spPr>
          <a:xfrm flipH="1" rot="10776000">
            <a:off x="2003040" y="4514760"/>
            <a:ext cx="785880" cy="449280"/>
          </a:xfrm>
          <a:prstGeom prst="rightArrow">
            <a:avLst>
              <a:gd name="adj1" fmla="val 50000"/>
              <a:gd name="adj2" fmla="val 437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12" name="Picture 32" descr=""/>
          <p:cNvPicPr/>
          <p:nvPr/>
        </p:nvPicPr>
        <p:blipFill>
          <a:blip r:embed="rId1"/>
          <a:stretch/>
        </p:blipFill>
        <p:spPr>
          <a:xfrm>
            <a:off x="2843280" y="2419200"/>
            <a:ext cx="3322440" cy="29498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33"/>
          <p:cNvSpPr/>
          <p:nvPr/>
        </p:nvSpPr>
        <p:spPr>
          <a:xfrm rot="10800000">
            <a:off x="6194520" y="2674800"/>
            <a:ext cx="542880" cy="549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8"/>
          <p:cNvSpPr/>
          <p:nvPr/>
        </p:nvSpPr>
        <p:spPr>
          <a:xfrm>
            <a:off x="1727280" y="2111400"/>
            <a:ext cx="3662280" cy="1401840"/>
          </a:xfrm>
          <a:custGeom>
            <a:avLst/>
            <a:gdLst>
              <a:gd name="textAreaLeft" fmla="*/ 0 w 3662280"/>
              <a:gd name="textAreaRight" fmla="*/ 3662640 w 3662280"/>
              <a:gd name="textAreaTop" fmla="*/ 0 h 1401840"/>
              <a:gd name="textAreaBottom" fmla="*/ 1402200 h 140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281320" y="2289240"/>
            <a:ext cx="303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MS PGothic"/>
              </a:rPr>
              <a:t>Directiv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 2009/128/EC</a:t>
            </a:r>
            <a:endParaRPr b="0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</a:t>
            </a:r>
            <a:endParaRPr b="0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16" name="Picture 15" descr="MS"/>
          <p:cNvPicPr/>
          <p:nvPr/>
        </p:nvPicPr>
        <p:blipFill>
          <a:blip r:embed="rId1"/>
          <a:stretch/>
        </p:blipFill>
        <p:spPr>
          <a:xfrm>
            <a:off x="1812960" y="3824280"/>
            <a:ext cx="1225440" cy="790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38400" y="3962520"/>
            <a:ext cx="506592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5494"/>
                </a:solidFill>
                <a:latin typeface="Verdana"/>
              </a:rPr>
              <a:t>Implementation by </a:t>
            </a:r>
            <a:r>
              <a:rPr b="1" lang="it-IT" sz="2000" spc="-1" strike="noStrike">
                <a:solidFill>
                  <a:srgbClr val="0f5494"/>
                </a:solidFill>
                <a:latin typeface="Verdana"/>
              </a:rPr>
              <a:t>Nov 2011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85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5494"/>
                </a:solidFill>
                <a:latin typeface="Verdana"/>
              </a:rPr>
              <a:t>National Action Plans </a:t>
            </a:r>
            <a:r>
              <a:rPr b="1" lang="it-IT" sz="2000" spc="-1" strike="noStrike">
                <a:solidFill>
                  <a:srgbClr val="0f5494"/>
                </a:solidFill>
                <a:latin typeface="Verdana"/>
              </a:rPr>
              <a:t>Nov 2012 </a:t>
            </a:r>
            <a:r>
              <a:rPr b="0" lang="it-IT" sz="2000" spc="-1" strike="noStrike">
                <a:solidFill>
                  <a:srgbClr val="0f5494"/>
                </a:solidFill>
                <a:latin typeface="Verdana"/>
              </a:rPr>
              <a:t>(revised at least every 5 year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85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1362600" y="5567400"/>
            <a:ext cx="617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0000"/>
                </a:solidFill>
                <a:latin typeface="Verdana"/>
                <a:ea typeface="Arial"/>
              </a:rPr>
              <a:t>Directive: national approaches in implementation + subsidiarity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0000"/>
                </a:solidFill>
                <a:latin typeface="Verdana"/>
                <a:ea typeface="Arial"/>
              </a:rPr>
              <a:t>"framework" Directive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9" name="Right Arrow 2"/>
          <p:cNvSpPr/>
          <p:nvPr/>
        </p:nvSpPr>
        <p:spPr>
          <a:xfrm>
            <a:off x="636480" y="599760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1047600" y="2254320"/>
            <a:ext cx="7925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484200" y="2381760"/>
            <a:ext cx="2886120" cy="31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5494"/>
                </a:solidFill>
                <a:latin typeface="Verdana"/>
                <a:ea typeface="MS PGothic"/>
              </a:rPr>
              <a:t>Reduce impacts on humans and the environment </a:t>
            </a:r>
            <a:endParaRPr b="0" lang="en-US" sz="2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5494"/>
                </a:solidFill>
                <a:latin typeface="Verdana"/>
                <a:ea typeface="MS PGothic"/>
              </a:rPr>
              <a:t>+ </a:t>
            </a:r>
            <a:endParaRPr b="0" lang="en-US" sz="2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MS PGothic"/>
              </a:rPr>
              <a:t>promote the use of low pesticides-input pest management </a:t>
            </a:r>
            <a:endParaRPr b="0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4062240" y="3645000"/>
            <a:ext cx="882720" cy="523800"/>
          </a:xfrm>
          <a:prstGeom prst="rightArrow">
            <a:avLst>
              <a:gd name="adj1" fmla="val 50000"/>
              <a:gd name="adj2" fmla="val 421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070520" y="3740040"/>
            <a:ext cx="9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MS PGothic"/>
              </a:rPr>
              <a:t>Tools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5581800" y="1363680"/>
            <a:ext cx="430200" cy="477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1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5" name="Oval 9"/>
          <p:cNvSpPr/>
          <p:nvPr/>
        </p:nvSpPr>
        <p:spPr>
          <a:xfrm>
            <a:off x="5573880" y="1844640"/>
            <a:ext cx="430200" cy="477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5573880" y="2325600"/>
            <a:ext cx="430200" cy="479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3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7" name="Oval 11"/>
          <p:cNvSpPr/>
          <p:nvPr/>
        </p:nvSpPr>
        <p:spPr>
          <a:xfrm>
            <a:off x="5581800" y="2830680"/>
            <a:ext cx="430200" cy="475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4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Oval 12"/>
          <p:cNvSpPr/>
          <p:nvPr/>
        </p:nvSpPr>
        <p:spPr>
          <a:xfrm>
            <a:off x="5573880" y="3328920"/>
            <a:ext cx="430200" cy="47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5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5581800" y="3814920"/>
            <a:ext cx="430200" cy="47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6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0" name="Oval 14"/>
          <p:cNvSpPr/>
          <p:nvPr/>
        </p:nvSpPr>
        <p:spPr>
          <a:xfrm>
            <a:off x="5581800" y="4324320"/>
            <a:ext cx="430200" cy="47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7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1" name="Oval 15"/>
          <p:cNvSpPr/>
          <p:nvPr/>
        </p:nvSpPr>
        <p:spPr>
          <a:xfrm>
            <a:off x="5581800" y="4827600"/>
            <a:ext cx="430200" cy="477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8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Oval 16"/>
          <p:cNvSpPr/>
          <p:nvPr/>
        </p:nvSpPr>
        <p:spPr>
          <a:xfrm>
            <a:off x="5581800" y="5332320"/>
            <a:ext cx="430200" cy="47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5977080" y="143820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Training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6032520" y="1932120"/>
            <a:ext cx="90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Sales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6032520" y="2413080"/>
            <a:ext cx="212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Awareness raising 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6033960" y="2908440"/>
            <a:ext cx="182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Equipment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6058080" y="3400560"/>
            <a:ext cx="21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Aerial applications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6033960" y="3807000"/>
            <a:ext cx="171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Aquatic environment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5934240" y="438480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Protected areas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5965920" y="477684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Handling, storage, disposal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6046920" y="533556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IPM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2" name="Oval 16"/>
          <p:cNvSpPr/>
          <p:nvPr/>
        </p:nvSpPr>
        <p:spPr>
          <a:xfrm>
            <a:off x="5583240" y="5829480"/>
            <a:ext cx="430200" cy="47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10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6068880" y="5810400"/>
            <a:ext cx="193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MS PGothic"/>
              </a:rPr>
              <a:t>Harmonised risk indicators</a:t>
            </a:r>
            <a:endParaRPr b="0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Main ac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rain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rofessional PPP users, distributors and advisors get proper training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EU countries establish certification system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Dec 2013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fb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Symbol"/>
                <a:ea typeface="Symbol"/>
              </a:rPr>
              <a:t>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support: "Better Training Safer Food" Programm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al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PP sale only by trained people (certificate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o sale of professional PPPs to people without certificat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Main ac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spection of equipment in us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ll PAE inspected at least once by 2016, then every 5 year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after 2020 every 3 year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Harmonised standards for inspection of PAE under development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CEN mandate / ISO standard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9fb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Symbol"/>
                <a:ea typeface="Symbol"/>
              </a:rPr>
              <a:t>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support: "Better Training Safer Food" Programm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erial spraying is prohibit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…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but derogations are possible under some conditions. Warning of residents essential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Main ac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312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tegrated pest manage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General IPM principles (Annex III) mandatory for professional users since 1 January 2014.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f5494"/>
                </a:solidFill>
                <a:latin typeface="Verdana"/>
              </a:rPr>
              <a:t>MS to guarantee conditions for IPM (e.g. information tools, advisory services) + incentiv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f5494"/>
                </a:solidFill>
                <a:latin typeface="Verdana"/>
              </a:rPr>
              <a:t>MS to report by 2013 to COM on IPM implemen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Handling, storage, dispos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Recovery and disposal of PPP remnants and packaging according to waste legisl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Storage areas should prevent unwanted releases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Main ac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formation and awareness raising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Measures to inform the general public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systems to gather information on acute and chronic poisoning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f5494"/>
                </a:solidFill>
                <a:latin typeface="Verdana"/>
              </a:rPr>
              <a:t>Monitoring – strategic guidance under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inimising use or banning of PPP use in critical areas for environmental and health reas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f5494"/>
                </a:solidFill>
                <a:latin typeface="Verdana"/>
              </a:rPr>
              <a:t>water, public parcs, schools, protected natural areas, etc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8400" y="1328760"/>
            <a:ext cx="8011800" cy="20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ec.europa.eu/food/plant/pesticides/sustainable_use_pesticides/index_en.ht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3" name="Picture 6" descr="question-mark1a"/>
          <p:cNvPicPr/>
          <p:nvPr/>
        </p:nvPicPr>
        <p:blipFill>
          <a:blip r:embed="rId2"/>
          <a:stretch/>
        </p:blipFill>
        <p:spPr>
          <a:xfrm>
            <a:off x="3057480" y="2695680"/>
            <a:ext cx="2629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15:30:30Z</dcterms:created>
  <dc:creator/>
  <dc:description/>
  <dc:language>en-US</dc:language>
  <cp:lastModifiedBy/>
  <dcterms:modified xsi:type="dcterms:W3CDTF">2014-10-06T10:22:04Z</dcterms:modified>
  <cp:revision>1</cp:revision>
  <dc:subject/>
  <dc:title/>
</cp:coreProperties>
</file>